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AC5-C511-488F-AE63-AE4908C9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03B-F76B-404E-BD21-B619238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6A9-3B9D-4B92-8AB1-47631C3F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F51-5099-483E-95C1-B688EC53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9F6-6190-436A-B992-4E74CEA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C18-0357-453E-812E-91DCC237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EE0-F3FB-46E9-BC5A-B4430ECE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A8F-5C13-4205-9F4D-75D8538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CE1-5B46-4856-9217-231AD10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131-20F2-49A0-9FC8-E83ADF2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798-EC11-4DBF-B8F1-3A2EF659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F84-6D8E-4B90-8157-787D463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2E9F-365B-4AAA-AFA2-6A639D78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42920" y="490680"/>
            <a:ext cx="5607000" cy="5878800"/>
            <a:chOff x="1042920" y="490680"/>
            <a:chExt cx="5607000" cy="5878800"/>
          </a:xfrm>
        </p:grpSpPr>
        <p:sp>
          <p:nvSpPr>
            <p:cNvPr id="42" name=""/>
            <p:cNvSpPr/>
            <p:nvPr/>
          </p:nvSpPr>
          <p:spPr>
            <a:xfrm>
              <a:off x="2901960" y="490680"/>
              <a:ext cx="283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Glycine + Succinyl 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160" y="142560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-Aminolevulin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63360" y="3112920"/>
              <a:ext cx="874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97480" y="402408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verd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28080" y="49082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rub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04120" y="5665680"/>
              <a:ext cx="2672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rubin diglucuron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2000" spc="-1" strike="noStrike">
                  <a:solidFill>
                    <a:srgbClr val="000000"/>
                  </a:solidFill>
                  <a:latin typeface="Arial"/>
                </a:rPr>
                <a:t>(secreted in b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43520" y="92232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67280" y="2193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67280" y="20271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2600" y="2516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00400" y="3547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00400" y="438624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00400" y="5514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00400" y="52671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42920" y="30891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Hemoprote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9880" y="331920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833920" y="32432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88960" y="993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ALAS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19640" y="2217600"/>
              <a:ext cx="23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2000" spc="-1" strike="noStrike">
                  <a:solidFill>
                    <a:srgbClr val="000000"/>
                  </a:solidFill>
                  <a:latin typeface="Arial"/>
                </a:rPr>
                <a:t>7 enzymatic ste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560" y="3608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HO-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30720" y="4465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BV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8200" y="5317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UG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2600" y="26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7280" y="1858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65480" y="28717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67280" y="23619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4000" y="2602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FIG.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08:48Z</dcterms:created>
  <dc:creator>mnia</dc:creator>
  <dc:description/>
  <dc:language>en-US</dc:language>
  <cp:lastModifiedBy>Marjo Niittynen</cp:lastModifiedBy>
  <dcterms:modified xsi:type="dcterms:W3CDTF">2008-02-25T14:51:51Z</dcterms:modified>
  <cp:revision>21</cp:revision>
  <dc:subject/>
  <dc:title>PowerPoint Presentation</dc:title>
</cp:coreProperties>
</file>